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3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C45-EE6E-4A19-92F4-AFD0B95F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46E-F622-431C-B394-91C267FD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063-3961-4897-9738-A80D8E9C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03F-BA1C-4D52-85CD-3E02ADEB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8876C-2953-4B16-967C-048F45BD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4F244-F11E-4675-8FE4-489F9EA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02403-F7C5-4358-82FA-B3631483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51199-99FA-4B96-A185-58E9732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C0038-536A-463D-8B2D-7D743791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F0061-A326-4311-B34E-2217EB10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E3F2C-48B5-4E5D-82A5-4339BC2F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39D-AAB9-40B1-AA00-3656FDF2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AADC5-D6CC-4113-A551-2F5E049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51F47-CFCE-405D-B2C9-1477239A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2693E-67EE-40E8-83CA-5E56C611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52926-5573-4978-894B-4F77EB5F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A02CB-6BE4-4A2C-8BCC-9EC946BC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597-A26A-4C48-A0E5-B8A64FD3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2B8-8EC5-4AE1-ADBC-6A35EFB2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6EE-36B8-439D-A9D0-8588BC06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624-3C26-4274-A03B-671457AF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60D-40B4-4B95-B591-C412B97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59B-4A72-4326-89B8-BCC6F86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7C9-222F-46CA-BB14-1736DE8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5502-4B8F-4762-9795-E717725FA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FB1A-0DF7-4F71-A72E-B75A3703AF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ome.planet.nl/~onielsen/cam/moon-2003feb05-120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ehead.unc.edu/Shows/EMS/image%20pages/crecent%20moon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10h5moo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14h6moon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18h9moon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22h10moon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28h2m24moon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Phases of the Mo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moonphases_1"/>
          <p:cNvPicPr/>
          <p:nvPr/>
        </p:nvPicPr>
        <p:blipFill>
          <a:blip r:embed="rId1"/>
          <a:stretch/>
        </p:blipFill>
        <p:spPr>
          <a:xfrm>
            <a:off x="2124000" y="1627200"/>
            <a:ext cx="50403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ost importantly of all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Tahoma"/>
              </a:rPr>
              <a:t>It takes 28 days for the moon to orbit the Earth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unar Eclip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laun"/>
          <p:cNvPicPr/>
          <p:nvPr/>
        </p:nvPicPr>
        <p:blipFill>
          <a:blip r:embed="rId1"/>
          <a:stretch/>
        </p:blipFill>
        <p:spPr>
          <a:xfrm>
            <a:off x="1547640" y="1574640"/>
            <a:ext cx="59770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Red Moon 21 January 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moon"/>
          <p:cNvPicPr/>
          <p:nvPr/>
        </p:nvPicPr>
        <p:blipFill>
          <a:blip r:embed="rId1"/>
          <a:stretch/>
        </p:blipFill>
        <p:spPr>
          <a:xfrm>
            <a:off x="1332000" y="1844640"/>
            <a:ext cx="66247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16/7/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Apollo 11 liftoff"/>
          <p:cNvPicPr/>
          <p:nvPr/>
        </p:nvPicPr>
        <p:blipFill>
          <a:blip r:embed="rId1"/>
          <a:stretch/>
        </p:blipFill>
        <p:spPr>
          <a:xfrm>
            <a:off x="2627280" y="1844640"/>
            <a:ext cx="34243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Planet Earth 19/7/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Earth from Apollo 11"/>
          <p:cNvPicPr/>
          <p:nvPr/>
        </p:nvPicPr>
        <p:blipFill>
          <a:blip r:embed="rId1"/>
          <a:stretch/>
        </p:blipFill>
        <p:spPr>
          <a:xfrm>
            <a:off x="2340000" y="1608120"/>
            <a:ext cx="38163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Earth rising 20/7/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Earthrise"/>
          <p:cNvPicPr/>
          <p:nvPr/>
        </p:nvPicPr>
        <p:blipFill>
          <a:blip r:embed="rId1"/>
          <a:stretch/>
        </p:blipFill>
        <p:spPr>
          <a:xfrm>
            <a:off x="2268360" y="1776240"/>
            <a:ext cx="36720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one small step for man…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TV image of Armstrong stepping on the Moon"/>
          <p:cNvPicPr/>
          <p:nvPr/>
        </p:nvPicPr>
        <p:blipFill>
          <a:blip r:embed="rId1"/>
          <a:stretch/>
        </p:blipFill>
        <p:spPr>
          <a:xfrm>
            <a:off x="1692360" y="1903320"/>
            <a:ext cx="4824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Aldrin reflection picture"/>
          <p:cNvPicPr/>
          <p:nvPr/>
        </p:nvPicPr>
        <p:blipFill>
          <a:blip r:embed="rId1"/>
          <a:stretch/>
        </p:blipFill>
        <p:spPr>
          <a:xfrm>
            <a:off x="1785960" y="260280"/>
            <a:ext cx="5354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1828800" y="1905120"/>
          <a:ext cx="548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xing Cresc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Waxing crescent Moon 5 Feb 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55592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irst Qu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crecent%20moon%20sm%20black%20and%20wh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30480" y="1413000"/>
            <a:ext cx="2809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xing Gibbo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0" descr="10 Days 5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95264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ull Mo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14 Days 6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70028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ning Gibbo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18 Days 9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413000"/>
            <a:ext cx="51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t Qu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22 Days 10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954080"/>
            <a:ext cx="3888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ning Cresc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28 Days 2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5:16:47Z</dcterms:created>
  <dc:creator>Valued Acer Custopmer</dc:creator>
  <dc:description/>
  <dc:language>en-US</dc:language>
  <cp:lastModifiedBy>acer</cp:lastModifiedBy>
  <dcterms:modified xsi:type="dcterms:W3CDTF">2009-11-27T17:17:09Z</dcterms:modified>
  <cp:revision>8</cp:revision>
  <dc:subject/>
  <dc:title>Phases of the Moon</dc:title>
</cp:coreProperties>
</file>